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6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D44-C019-4D44-9160-9A6661DC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B5A-FB82-4F9E-B0E3-24F52342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E53-BAC7-4CEC-8648-DFFC34A2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CEA0-9EFB-4302-BD56-AF4E1BB6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0DB-0432-4EE8-B587-E25C1538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788-A33A-4673-80CB-5A740133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13E-A72F-497E-89EB-66506AF5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D90-40BF-48DD-9864-3B8E3C11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45F-FA01-40F0-BCEA-1AD406AC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C7C-8CF2-4B3B-AD70-893FF62F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466-25C1-4B45-8DF6-D463694C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9BD7-EA41-4288-B01D-B3F29236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709B-4E4E-4CB9-B00E-A88A13778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7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ing Absolute Value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0574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 Translating Graphs of Absolute Value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6324840" cy="264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95280" y="5791320"/>
            <a:ext cx="601992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52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27432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53452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3657600" cy="426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343400" y="1676520"/>
            <a:ext cx="43149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553080" cy="8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3809880" cy="717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211932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85800" y="4121280"/>
            <a:ext cx="3657600" cy="1212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410080" y="4267080"/>
            <a:ext cx="22860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229600" cy="91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810240" cy="42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76920" y="1676520"/>
            <a:ext cx="3809880" cy="36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42670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56272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lain the difference between the graph of y = x  + 3 and Y =  x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53452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11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53341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21:44:59Z</dcterms:created>
  <dc:creator>Susannah Graham</dc:creator>
  <dc:description/>
  <dc:language>en-US</dc:language>
  <cp:lastModifiedBy>Susannah Graham</cp:lastModifiedBy>
  <dcterms:modified xsi:type="dcterms:W3CDTF">2009-08-04T21:17:15Z</dcterms:modified>
  <cp:revision>2</cp:revision>
  <dc:subject/>
  <dc:title>Lesson 6.7 Graphing Absolute Value Equations</dc:title>
</cp:coreProperties>
</file>